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F64-64B8-4BCA-A72C-CB746E65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D8C-69EE-4028-BECB-CA9CC5DD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DCB-A8AE-4E6E-95CF-9678926C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B80-2067-467A-A087-DEBB1129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827-C85F-4980-A162-40DAA3AD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B05-F883-418F-9F85-BC4084AD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36E-FB60-4C25-9065-66162FE4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175-B417-44A0-AC52-90A5F9AF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3ED-75AA-4D9C-8E6E-CAEE637D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13A-44A7-4D8A-B388-44C632DC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785-2BA8-459A-A7A4-82A95CB8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3B9-27AA-4BA6-9B17-7279950F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D477-EBD7-43D4-865C-36A740D15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1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3:10Z</dcterms:created>
  <dc:creator>Anon Anon</dc:creator>
  <dc:description/>
  <dc:language>en-US</dc:language>
  <cp:lastModifiedBy>Anon Anon</cp:lastModifiedBy>
  <dcterms:modified xsi:type="dcterms:W3CDTF">2005-08-09T05:25:22Z</dcterms:modified>
  <cp:revision>11</cp:revision>
  <dc:subject/>
  <dc:title>PowerPoint Presentation</dc:title>
</cp:coreProperties>
</file>